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85828"/>
        <c:axId val="36365986"/>
      </c:barChart>
      <c:catAx>
        <c:axId val="89485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65986"/>
        <c:crosses val="autoZero"/>
        <c:auto val="1"/>
        <c:lblAlgn val="ctr"/>
        <c:lblOffset val="100"/>
        <c:noMultiLvlLbl val="0"/>
      </c:catAx>
      <c:valAx>
        <c:axId val="36365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85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BD8-6BE3-4B18-B6EA-7A194314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269-7CEA-4D29-A723-70EBA8C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C4F-096E-459B-B676-B97E56CC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D17-11F4-467A-91BB-780ECCA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A9E-4441-474A-B57E-31008E4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39F-9E4F-4609-AA5D-4FF179A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D64-2882-44CB-84E0-0E457C0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EBA-D3B8-4FC2-8ACB-3E33D7A3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BBF-DC7D-4E0B-ACF9-E9597EB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ACC-6D1D-4D14-8FA5-77EB0D0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4BF-63CE-4FCB-8B6A-A89C294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84-48E1-4C84-899C-D2EDED77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73A7-8401-4C68-9BBB-B29DA7524D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