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2800"/>
        <c:axId val="81589038"/>
      </c:barChart>
      <c:catAx>
        <c:axId val="5082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89038"/>
        <c:crosses val="autoZero"/>
        <c:auto val="1"/>
        <c:lblAlgn val="ctr"/>
        <c:lblOffset val="100"/>
        <c:noMultiLvlLbl val="0"/>
      </c:catAx>
      <c:valAx>
        <c:axId val="81589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2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8D6-76CE-4DD9-9DCF-771D9444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574-FBB2-421B-A900-7248F561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8DA-77F8-4B71-9705-2AC1A925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ECC-B6CB-4793-95AE-DCCACF1E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95A-E41F-4F77-82E1-8573EFD0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07F-7DCA-4627-8B19-5133014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130-D618-492C-978A-4B0A994E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A81-E5F8-423E-8E80-D079550C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070-40DF-440F-A256-563A602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DD2-DFFF-4F75-9026-2978FCB6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010-EADC-4BC7-9588-9F8934A9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1C9-B8E4-4BE6-A216-C61C142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9BA42-31D7-4589-909D-0D249D5CF5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