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294791"/>
        <c:axId val="55080421"/>
      </c:barChart>
      <c:catAx>
        <c:axId val="452947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080421"/>
        <c:crosses val="autoZero"/>
        <c:auto val="1"/>
        <c:lblAlgn val="ctr"/>
        <c:lblOffset val="100"/>
        <c:noMultiLvlLbl val="0"/>
      </c:catAx>
      <c:valAx>
        <c:axId val="55080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2947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917A-123A-46BE-86F8-13B63706A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A207-A8B6-4403-8008-0ED608658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2C70-D544-4E16-B2AE-831DE4FB0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B3C1-C6EF-4BD9-8FC2-B311B6D2C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E5A0-4411-469D-8BF8-E971EE8C7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2FEE-17DA-4131-8C66-9E53B038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31CD-0E97-41B9-BEC2-A3D22ED5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E5C8-E335-45D9-BE0E-F72806CE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25BA-4C7D-4D14-B3CC-BB2420AA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B86F-E231-40A1-9F66-494C3A5F2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9BA6-7424-4AB3-AE94-804FE989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B139-4832-4140-AACE-F01E6AEDA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79674-83C8-4478-82DF-642F8E41BD1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