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56511"/>
        <c:axId val="97392456"/>
      </c:barChart>
      <c:catAx>
        <c:axId val="802565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92456"/>
        <c:crosses val="autoZero"/>
        <c:auto val="1"/>
        <c:lblAlgn val="ctr"/>
        <c:lblOffset val="100"/>
        <c:noMultiLvlLbl val="0"/>
      </c:catAx>
      <c:valAx>
        <c:axId val="973924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565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C668-DBD4-441F-A20A-D748FFEA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34DC-BCAB-4CE3-BEB9-E1F48B74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6616-99B5-4730-8F91-DF7374AB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6D0C-5B9F-4E69-99F9-ABE9E50D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8B3F-66B3-49D8-8F9C-8683E909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D58-9684-4177-AF7C-6FBF5D74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430F-DA8C-4BB0-9D16-EBFAA37C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536-1284-4EE7-9589-DF016237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EB8-AB0D-4163-BA8E-E320C5AA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806E-69AB-48F1-AE81-DD6E2CE0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EC19-E73D-4B9D-B46A-B2388847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230-33B6-4EF2-A4AB-F3A6344E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9DDEE-0962-423E-9FEA-65B975800C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