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46538"/>
        <c:axId val="62729886"/>
      </c:barChart>
      <c:catAx>
        <c:axId val="95746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29886"/>
        <c:crosses val="autoZero"/>
        <c:auto val="1"/>
        <c:lblAlgn val="ctr"/>
        <c:lblOffset val="100"/>
        <c:noMultiLvlLbl val="0"/>
      </c:catAx>
      <c:valAx>
        <c:axId val="62729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46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02A-90F6-4980-87C0-B53C3DBD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CB3-D7E1-4083-A556-93A6E451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EE0-79DA-4DAC-BCC0-38A7F2B8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121-E1A5-4318-80B2-B95A2E36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7F2-1A70-4948-9DC8-0507F92D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C964-DA16-4CD9-BEEB-6C5036A9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1474-11F8-465B-84D1-3E32440B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220-8D04-4627-A3E4-345331E1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20F-B7E4-4080-97F9-E4B9ACAC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740-D5B4-4E14-AE41-7D3A0FF8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4D2-29D5-49CF-9277-6264471F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4AB-1BA7-4B4D-9A5D-3BFD4061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B5E88-F1CA-4FE1-93FF-6CB1867716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