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656221"/>
        <c:axId val="62185709"/>
      </c:barChart>
      <c:catAx>
        <c:axId val="106562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85709"/>
        <c:crosses val="autoZero"/>
        <c:auto val="1"/>
        <c:lblAlgn val="ctr"/>
        <c:lblOffset val="100"/>
        <c:noMultiLvlLbl val="0"/>
      </c:catAx>
      <c:valAx>
        <c:axId val="621857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6562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736E-7351-4C12-ABCC-41EE65562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11A6-6EE8-464B-87D1-9413CC4F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DDD6-2E5D-4BB8-9C84-CE9E21DD6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89BA-1480-4B84-952C-62928B14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225B-E08B-466F-941C-A50EE066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F9AB-9D22-4A43-88E4-137D0CE2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225A-E0E6-42D4-A08B-29BD3470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97F0-9DFC-4491-A09E-466D2667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5ED8-D2BD-49BB-967B-5E91CDE4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8075-19D5-48CB-99CD-0B6A4ACB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E0EB-2335-459B-A871-44CC6D96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82A7-3991-4234-9E6D-E3BF526B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812641-CBC8-438F-987D-F6AB905875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