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09791"/>
        <c:axId val="70068952"/>
      </c:barChart>
      <c:catAx>
        <c:axId val="48009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68952"/>
        <c:crosses val="autoZero"/>
        <c:auto val="1"/>
        <c:lblAlgn val="ctr"/>
        <c:lblOffset val="100"/>
        <c:noMultiLvlLbl val="0"/>
      </c:catAx>
      <c:valAx>
        <c:axId val="70068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9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375-31DF-4D73-83C9-BCB1DF62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2C6-42E8-4CC2-815C-C72E96F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34B-0E5B-4D4C-8993-1B35A53C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1C6-B1A6-4D37-A2F9-7FF73132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E2C-A885-4F17-8681-B796CD9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FE2-A4C4-4F32-864F-D69B933A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04C-CAE2-4B33-BECC-3B8E922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5C6-2446-4816-8470-F3CAD2B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03C-3027-4EB3-A914-F2F99B4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2CF-EF00-4257-B4E1-DFFD417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FF1-7AEC-4CF1-B654-2CA8604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31D-E373-4724-9210-B64F344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134D2-6127-4C02-946A-7DD3CC56C6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