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0288"/>
        <c:axId val="91009497"/>
      </c:barChart>
      <c:catAx>
        <c:axId val="9840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09497"/>
        <c:crosses val="autoZero"/>
        <c:auto val="1"/>
        <c:lblAlgn val="ctr"/>
        <c:lblOffset val="100"/>
        <c:noMultiLvlLbl val="0"/>
      </c:catAx>
      <c:valAx>
        <c:axId val="91009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0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7DE-06E4-499F-B1E3-776EE560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28F-A034-4967-8A57-9C518D72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9E0-D409-4678-B4B9-97C00BC3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FD5-6905-4238-AB32-0C792AAE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19B-6408-4A03-A3FD-D72F6AD3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E03-3C87-4AD7-80CE-0699B1C6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625-2366-4703-AFA4-529A0AD1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DCD-5445-4FCB-8323-1AACD300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DB6-E0CF-4ED8-B823-36977592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539-C388-4D9B-BC44-8F7B7307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C53-CED7-449F-AB60-1167A1B6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C20-FEC8-4343-834A-87CFEFB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20A71-DF97-4CEF-B483-BB59A5BF34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